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1855                    Smoothbore musket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1864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      18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ie ball invented     At beginning of war     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    Rifle invented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     Gatlin gun invented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    Gatlin gun approved by government</a:t>
            </a:r>
            <a:br>
              <a:rPr sz="1200"/>
            </a:br>
            <a:br>
              <a:rPr sz="12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|__|___|___|___|___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MELINE ON WEAPONRY IN CIVIL W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